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7152-5469-4ACC-940A-0058AB7C2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B5F-532D-468D-8D52-CDEE60A4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B2F-C9D9-4CC4-995E-BEA824EF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B5B-4A16-48DC-8DE4-210903A9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0BA-D153-4815-A7FD-D9BAF528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369-250F-4933-BD0E-93703BDC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464-44EF-4857-A682-5A6AA1E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E46-2C72-46A1-9DD1-545F784D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9F0-F6E9-45DF-BB04-0BF94F07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5FF-9527-449B-94C2-020241C2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674-F15C-46D6-87F3-B51AF5F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14B-B694-4FB7-8696-4452A17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B50-FA53-4F61-878D-24EA8F2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B3D-C04B-4D6E-AF06-EF090AB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2FA-C384-4F7F-A1D1-39BCDB068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png"/><Relationship Id="rId19" Type="http://schemas.openxmlformats.org/officeDocument/2006/relationships/image" Target="../media/image17.jpeg"/><Relationship Id="rId20" Type="http://schemas.openxmlformats.org/officeDocument/2006/relationships/image" Target="../media/image18.jpeg"/><Relationship Id="rId21" Type="http://schemas.openxmlformats.org/officeDocument/2006/relationships/image" Target="../media/image19.jpeg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trina Bel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fotos de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23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 mensaje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pea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7320" y="4621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7320" y="4392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062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581280"/>
            <a:ext cx="142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457200" y="50626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9080" y="56372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968400" y="4910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 de la ciudad de Astor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81280" y="3208320"/>
            <a:ext cx="42530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y bien, gracias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a!!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ándo me vas a visitar?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oy seguro todavía, pero pront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echo de mos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057400" y="19494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bien contento y emocionado de viernes!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444600" y="56070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78000" y="3138480"/>
            <a:ext cx="380880" cy="50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96" name="Picture 60" descr=""/>
          <p:cNvPicPr/>
          <p:nvPr/>
        </p:nvPicPr>
        <p:blipFill>
          <a:blip r:embed="rId3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"/>
          <p:cNvPicPr/>
          <p:nvPr/>
        </p:nvPicPr>
        <p:blipFill>
          <a:blip r:embed="rId4"/>
          <a:stretch/>
        </p:blipFill>
        <p:spPr>
          <a:xfrm>
            <a:off x="2033640" y="349740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"/>
          <a:stretch/>
        </p:blipFill>
        <p:spPr>
          <a:xfrm>
            <a:off x="2249640" y="5135400"/>
            <a:ext cx="258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2147760" y="4362480"/>
            <a:ext cx="387360" cy="5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7"/>
          <a:stretch/>
        </p:blipFill>
        <p:spPr>
          <a:xfrm>
            <a:off x="2146320" y="5946840"/>
            <a:ext cx="39060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"/>
          <p:cNvPicPr/>
          <p:nvPr/>
        </p:nvPicPr>
        <p:blipFill>
          <a:blip r:embed="rId8"/>
          <a:stretch/>
        </p:blipFill>
        <p:spPr>
          <a:xfrm>
            <a:off x="157320" y="4657680"/>
            <a:ext cx="33012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561960" y="4676760"/>
            <a:ext cx="37800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057320" y="4672080"/>
            <a:ext cx="237960" cy="42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4" name="Picture 7" descr=""/>
          <p:cNvPicPr/>
          <p:nvPr/>
        </p:nvPicPr>
        <p:blipFill>
          <a:blip r:embed="rId11"/>
          <a:stretch/>
        </p:blipFill>
        <p:spPr>
          <a:xfrm>
            <a:off x="100080" y="5278320"/>
            <a:ext cx="409680" cy="408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2"/>
          <a:stretch/>
        </p:blipFill>
        <p:spPr>
          <a:xfrm>
            <a:off x="561960" y="5278320"/>
            <a:ext cx="314280" cy="3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13"/>
          <a:stretch/>
        </p:blipFill>
        <p:spPr>
          <a:xfrm>
            <a:off x="1352520" y="473544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298520" y="49831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4"/>
          <a:stretch/>
        </p:blipFill>
        <p:spPr>
          <a:xfrm>
            <a:off x="965160" y="525924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888840" y="5554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5"/>
          <a:stretch/>
        </p:blipFill>
        <p:spPr>
          <a:xfrm>
            <a:off x="1452600" y="5224320"/>
            <a:ext cx="293760" cy="3924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1314360" y="5560920"/>
            <a:ext cx="72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abelle 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6"/>
          <a:stretch/>
        </p:blipFill>
        <p:spPr>
          <a:xfrm>
            <a:off x="120600" y="5880240"/>
            <a:ext cx="354240" cy="2826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0"/>
          <p:cNvSpPr/>
          <p:nvPr/>
        </p:nvSpPr>
        <p:spPr>
          <a:xfrm>
            <a:off x="55440" y="608796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7"/>
          <a:stretch/>
        </p:blipFill>
        <p:spPr>
          <a:xfrm>
            <a:off x="581040" y="5818320"/>
            <a:ext cx="444600" cy="333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557280" y="6091200"/>
            <a:ext cx="5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y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2" descr=""/>
          <p:cNvPicPr/>
          <p:nvPr/>
        </p:nvPicPr>
        <p:blipFill>
          <a:blip r:embed="rId18"/>
          <a:stretch/>
        </p:blipFill>
        <p:spPr>
          <a:xfrm>
            <a:off x="982800" y="5624640"/>
            <a:ext cx="550800" cy="6364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3"/>
          <p:cNvSpPr/>
          <p:nvPr/>
        </p:nvSpPr>
        <p:spPr>
          <a:xfrm>
            <a:off x="965160" y="605628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h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19"/>
          <a:stretch/>
        </p:blipFill>
        <p:spPr>
          <a:xfrm>
            <a:off x="1467000" y="5716440"/>
            <a:ext cx="306360" cy="36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"/>
          <p:cNvPicPr/>
          <p:nvPr/>
        </p:nvPicPr>
        <p:blipFill>
          <a:blip r:embed="rId20"/>
          <a:stretch/>
        </p:blipFill>
        <p:spPr>
          <a:xfrm>
            <a:off x="561960" y="6294600"/>
            <a:ext cx="330120" cy="33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"/>
          <p:cNvPicPr/>
          <p:nvPr/>
        </p:nvPicPr>
        <p:blipFill>
          <a:blip r:embed="rId21"/>
          <a:stretch/>
        </p:blipFill>
        <p:spPr>
          <a:xfrm>
            <a:off x="157320" y="6310440"/>
            <a:ext cx="339480" cy="366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22"/>
          <a:stretch/>
        </p:blipFill>
        <p:spPr>
          <a:xfrm>
            <a:off x="1019160" y="6280200"/>
            <a:ext cx="257040" cy="344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5"/>
          <p:cNvSpPr/>
          <p:nvPr/>
        </p:nvSpPr>
        <p:spPr>
          <a:xfrm>
            <a:off x="57240" y="662796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s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487440" y="657864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1406520" y="6037200"/>
            <a:ext cx="77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907920" y="6586560"/>
            <a:ext cx="52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23"/>
          <a:stretch/>
        </p:blipFill>
        <p:spPr>
          <a:xfrm>
            <a:off x="1500120" y="6288120"/>
            <a:ext cx="239760" cy="388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7"/>
          <p:cNvSpPr/>
          <p:nvPr/>
        </p:nvSpPr>
        <p:spPr>
          <a:xfrm>
            <a:off x="1341360" y="6597720"/>
            <a:ext cx="20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52Z</dcterms:created>
  <dc:creator>FriscoISD</dc:creator>
  <dc:description/>
  <dc:language>en-US</dc:language>
  <cp:lastModifiedBy>Katrina</cp:lastModifiedBy>
  <dcterms:modified xsi:type="dcterms:W3CDTF">2012-12-07T01:08:42Z</dcterms:modified>
  <cp:revision>129</cp:revision>
  <dc:subject/>
  <dc:title>Profile</dc:title>
</cp:coreProperties>
</file>